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15.png" ContentType="image/png"/>
  <Override PartName="/ppt/media/image5.jpeg" ContentType="image/jpeg"/>
  <Override PartName="/ppt/media/image1.wmf" ContentType="image/x-wmf"/>
  <Override PartName="/ppt/media/image2.jpeg" ContentType="image/jpeg"/>
  <Override PartName="/ppt/media/image4.wmf" ContentType="image/x-wmf"/>
  <Override PartName="/ppt/media/image9.wmf" ContentType="image/x-wmf"/>
  <Override PartName="/ppt/media/image14.png" ContentType="image/png"/>
  <Override PartName="/ppt/media/image6.wmf" ContentType="image/x-wmf"/>
  <Override PartName="/ppt/media/image3.png" ContentType="image/png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0063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75C6C-18F2-4A70-B557-4944BBA380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7B1FB-A039-4A16-90E1-EBC268BB32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7F790-2EC5-4705-8048-7EF5EC24D8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294D3-E844-4BB0-8273-652D140A3D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2BB92-AA0E-405B-A1E8-79CA0E621D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4899C-378D-4751-80AB-649E81E971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08FD0-689F-4355-A345-CD939B15AF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7E597-A5C4-4AA0-8773-1E9CE38BAB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6131B-F404-4ADE-8953-91E838627A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B97BF-1A22-4DC8-A110-77274E6EC4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4CB9F-C5C4-4D23-A7B9-F7E8EE286C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21416-BA8C-49FF-9166-E2F46B6E6E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000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4710240" y="5877000"/>
            <a:ext cx="3867120" cy="94284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-890640" y="-392040"/>
            <a:ext cx="10925280" cy="7641720"/>
            <a:chOff x="-890640" y="-392040"/>
            <a:chExt cx="10925280" cy="7641720"/>
          </a:xfrm>
        </p:grpSpPr>
        <p:sp>
          <p:nvSpPr>
            <p:cNvPr id="42" name=""/>
            <p:cNvSpPr/>
            <p:nvPr/>
          </p:nvSpPr>
          <p:spPr>
            <a:xfrm>
              <a:off x="-890640" y="-392040"/>
              <a:ext cx="10925280" cy="54856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-810360" y="5093640"/>
              <a:ext cx="10665000" cy="2156040"/>
            </a:xfrm>
            <a:prstGeom prst="rect">
              <a:avLst/>
            </a:prstGeom>
            <a:solidFill>
              <a:srgbClr val="8ccec6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                        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0" y="41400"/>
            <a:ext cx="9053640" cy="14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685800" y="1981080"/>
            <a:ext cx="10591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ff"/>
                </a:solidFill>
                <a:latin typeface="Garamond"/>
                <a:ea typeface="Times New Roman"/>
              </a:rPr>
              <a:t>Conferenza stamp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ff"/>
                </a:solidFill>
                <a:latin typeface="Garamond"/>
                <a:ea typeface="Times New Roman"/>
              </a:rPr>
              <a:t>ARPA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ff"/>
                </a:solidFill>
                <a:latin typeface="Garamond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00ffff"/>
                </a:solidFill>
                <a:latin typeface="Garamond"/>
                <a:ea typeface="Times New Roman"/>
              </a:rPr>
              <a:t>6 Febbraio 200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ff"/>
                </a:solidFill>
                <a:latin typeface="Garamond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ffff"/>
                </a:solidFill>
                <a:latin typeface="Garamond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685960" y="762120"/>
            <a:ext cx="3867120" cy="942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3520" y="544032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v. Andrea Drag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ttore Generale ARPA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524400" y="1447920"/>
            <a:ext cx="6153120" cy="48895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50400" y="228600"/>
            <a:ext cx="7323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OVINCIA DI VENEZIA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PM10 totale: contributo emissivo percentuale diviso per macrosetto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4160" y="914400"/>
            <a:ext cx="3860640" cy="20109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Aggiornamento Gennaio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dell’incrocio top down – bottom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PM10 totale = PM10 primario (circa 6%) + PM10 second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ahoma"/>
              </a:rPr>
              <a:t>PM10 secondario = somma pesata delle emissioni di particolato a partire dai suoi precursori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07440" y="3517920"/>
            <a:ext cx="2541240" cy="8240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orto di Venezia: 1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eroporto M.Polo: 0.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82640" y="3124080"/>
            <a:ext cx="7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or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90840" y="1905120"/>
            <a:ext cx="119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eropor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2209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2280" y="5194440"/>
            <a:ext cx="3505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01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zione di energi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02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iscaldamen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03+M04+M06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tività produttiv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07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affico su strad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08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affico non su strad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05+M09 +M010+M011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tr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9D171-C346-4D18-A5DF-0BF922E3E6A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143160" y="1604880"/>
            <a:ext cx="6610320" cy="52531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950400" y="228600"/>
            <a:ext cx="7323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MUNE DI VENEZIA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PM10 totale: contributo emissivo percentuale diviso per macrosetto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963720"/>
            <a:ext cx="3886200" cy="1980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Aggiornamento Gennaio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dell’incrocio top down – bottom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PM10 totale = PM10 primario (circa 5%) + PM10 second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ahoma"/>
              </a:rPr>
              <a:t>PM10 secondario = somma pesata delle emissioni di particolato a partire dai suoi precursori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80520" y="3581280"/>
            <a:ext cx="2541240" cy="824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orto di Venezia: 14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eroporto M.Polo: 0.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76640" y="1644480"/>
            <a:ext cx="119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eropor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282640" y="3016080"/>
            <a:ext cx="7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or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15000" y="19810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5194440"/>
            <a:ext cx="3505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01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zione di energi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02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iscaldamen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03+M04+M06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tività produttiv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07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affico su strad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08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affico non su strad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05+M09 +M010+M011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tr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83772-03AB-481A-BA75-115F5A14974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Italia_nord" descr=""/>
          <p:cNvPicPr/>
          <p:nvPr/>
        </p:nvPicPr>
        <p:blipFill>
          <a:blip r:embed="rId1"/>
          <a:stretch/>
        </p:blipFill>
        <p:spPr>
          <a:xfrm>
            <a:off x="2133720" y="2571840"/>
            <a:ext cx="5257800" cy="34480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28600" y="584280"/>
            <a:ext cx="86868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Tutte le sorgenti emissive concorrono alla produzione di PM10 nel box della pianura padana, limitato verso l’alto dall’altezza dello strato di rimescol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Arpav" descr=""/>
          <p:cNvPicPr/>
          <p:nvPr/>
        </p:nvPicPr>
        <p:blipFill>
          <a:blip r:embed="rId2"/>
          <a:stretch/>
        </p:blipFill>
        <p:spPr>
          <a:xfrm>
            <a:off x="304920" y="6431040"/>
            <a:ext cx="1371600" cy="2840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 flipV="1">
            <a:off x="2590920" y="2895480"/>
            <a:ext cx="464796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514600" y="3885840"/>
            <a:ext cx="76320" cy="1219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04880" y="5157000"/>
            <a:ext cx="4515120" cy="81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010280" y="2971440"/>
            <a:ext cx="228600" cy="2971800"/>
          </a:xfrm>
          <a:prstGeom prst="line">
            <a:avLst/>
          </a:prstGeom>
          <a:ln w="57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280" y="3260880"/>
            <a:ext cx="1905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zioni meteorologiche sfavorevoli alla dispersione degli inquina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108D5-1F8D-41E9-8FCE-FC9A3EB852E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rcRect l="14763" t="31336" r="0" b="14244"/>
          <a:stretch/>
        </p:blipFill>
        <p:spPr>
          <a:xfrm>
            <a:off x="2590920" y="3400560"/>
            <a:ext cx="6553080" cy="32526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rcRect l="0" t="11395" r="0" b="12345"/>
          <a:stretch/>
        </p:blipFill>
        <p:spPr>
          <a:xfrm>
            <a:off x="762120" y="0"/>
            <a:ext cx="5638680" cy="3341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0F191-2CA9-4B05-995F-234F0C862D78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320" y="76320"/>
            <a:ext cx="1676160" cy="40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05120" y="0"/>
            <a:ext cx="72388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552f2"/>
                </a:solidFill>
                <a:latin typeface="Verdana"/>
              </a:rPr>
              <a:t>Recenti contributi conoscitivi ARPA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552f2"/>
                </a:solidFill>
                <a:latin typeface="Verdana"/>
              </a:rPr>
              <a:t>sulle emissioni di PM10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669960"/>
            <a:ext cx="85345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 Stima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ottom up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dell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missioni inquinant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di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rto di Venez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eroporto di Venez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Indicatore di contributo % dei vari macrosettori inquinanti a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missioni di PARTICOLATO TOTALE (primario e seconda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 Provincia e in Comune di Venez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D-navi-fango-02" descr=""/>
          <p:cNvPicPr/>
          <p:nvPr/>
        </p:nvPicPr>
        <p:blipFill>
          <a:blip r:embed="rId2"/>
          <a:stretch/>
        </p:blipFill>
        <p:spPr>
          <a:xfrm>
            <a:off x="4876920" y="1646280"/>
            <a:ext cx="2514600" cy="1706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876920" y="3429000"/>
            <a:ext cx="2514600" cy="138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2CE50-5C1F-45BA-92EF-8F65FA22F41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238880" y="2821680"/>
            <a:ext cx="1828800" cy="31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552f2"/>
                </a:solidFill>
                <a:latin typeface="Verdana"/>
                <a:ea typeface="Times New Roman"/>
              </a:rPr>
              <a:t>Cruise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: fasi di volo al di sopra dei 1000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d3f19"/>
                </a:solidFill>
                <a:latin typeface="Verdana"/>
                <a:ea typeface="Times New Roman"/>
              </a:rPr>
              <a:t>Landing/Take off cycles</a:t>
            </a:r>
            <a:r>
              <a:rPr b="0" lang="it-IT" sz="1400" spc="-1" strike="noStrike">
                <a:solidFill>
                  <a:srgbClr val="fd3f19"/>
                </a:solidFill>
                <a:latin typeface="Verdana"/>
                <a:ea typeface="Times New Roman"/>
              </a:rPr>
              <a:t> (LTO)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: attività di un aereo al di sotto dei </a:t>
            </a:r>
            <a:r>
              <a:rPr b="1" lang="it-IT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1000 m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, indicativamente pari all’ altezza della </a:t>
            </a:r>
            <a:r>
              <a:rPr b="1" lang="it-IT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zona di rimescola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2963880"/>
            <a:ext cx="7162920" cy="3208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2280" y="4114800"/>
            <a:ext cx="6934320" cy="1981080"/>
          </a:xfrm>
          <a:prstGeom prst="rect">
            <a:avLst/>
          </a:prstGeom>
          <a:noFill/>
          <a:ln cap="rnd" w="442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2743200"/>
            <a:ext cx="6934320" cy="1371600"/>
          </a:xfrm>
          <a:prstGeom prst="rect">
            <a:avLst/>
          </a:prstGeom>
          <a:noFill/>
          <a:ln cap="rnd" w="4428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22860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68160"/>
            <a:ext cx="6781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ono state stimate le emissioni in atmosfera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raffico AEREO nazional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ed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internazionale (200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lungo le rott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otto i 1000 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di quot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enendo conto delle tipologie degli aerei e delle loro fasi di movimento (decollo, atterraggio, movimento a terra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298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858000" y="0"/>
            <a:ext cx="2286000" cy="1260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09680" y="763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552f2"/>
                </a:solidFill>
                <a:latin typeface="Verdana"/>
              </a:rPr>
              <a:t>Aeroporto di Venez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DF768-6082-4C3E-9753-FF5751129F9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6096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552f2"/>
                </a:solidFill>
                <a:latin typeface="Verdana"/>
              </a:rPr>
              <a:t>Le rotte sotto i 1000 m coinvolgono vari Comu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rotte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610480" cy="5862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772400" y="0"/>
            <a:ext cx="1371600" cy="757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19320" cy="29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5F5F7-276D-451E-B932-84029B3CA2E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2237760"/>
            <a:ext cx="8229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ono state stimate le emissioni in atmosfera dei diversi inquinanti dovute al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raffico NAVALE nazional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ed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internazionale (2005) comprensivo anche dei rimorchiatori, entro le bocche di por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ulla base dei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ati di traffic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forniti dall’Autorità Portuale Veneziana (classificazione dei tipi di nave, dei loro movimenti e della loro stazza) si è determinato, per ogni tipo di nave e fase di movimento, il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fattore di emissione dei vari inquinanti,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econdo dati della Commissione Europe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I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onsum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nelle varie fasi di movimento considerate, 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anovre in port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e 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tazionament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(non la navigazione al di fuori delle bocche di porto, in acque non “provinciali”), sono stati calcolati in funzione  del tipo di nave e della stazza lorda, secondo una metodologia sviluppata nell’ambito di un progetto finanziato dalla Commissione Europe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320" cy="298440"/>
          </a:xfrm>
          <a:prstGeom prst="rect">
            <a:avLst/>
          </a:prstGeom>
          <a:ln w="0">
            <a:noFill/>
          </a:ln>
        </p:spPr>
      </p:pic>
      <p:pic>
        <p:nvPicPr>
          <p:cNvPr id="68" name="D-navi-fango-02" descr=""/>
          <p:cNvPicPr/>
          <p:nvPr/>
        </p:nvPicPr>
        <p:blipFill>
          <a:blip r:embed="rId2"/>
          <a:stretch/>
        </p:blipFill>
        <p:spPr>
          <a:xfrm>
            <a:off x="7772400" y="0"/>
            <a:ext cx="1371600" cy="928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133800" y="380880"/>
            <a:ext cx="299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552f2"/>
                </a:solidFill>
                <a:latin typeface="Verdana"/>
              </a:rPr>
              <a:t>Porto di Venez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DE504-A58C-472A-ABDA-F43FB2EBD54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152280" y="1981080"/>
            <a:ext cx="8839080" cy="3048120"/>
            <a:chOff x="152280" y="1981080"/>
            <a:chExt cx="8839080" cy="3048120"/>
          </a:xfrm>
        </p:grpSpPr>
        <p:grpSp>
          <p:nvGrpSpPr>
            <p:cNvPr id="71" name=""/>
            <p:cNvGrpSpPr/>
            <p:nvPr/>
          </p:nvGrpSpPr>
          <p:grpSpPr>
            <a:xfrm>
              <a:off x="157320" y="1985040"/>
              <a:ext cx="8827920" cy="3039480"/>
              <a:chOff x="157320" y="1985040"/>
              <a:chExt cx="8827920" cy="303948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157320" y="1985040"/>
                <a:ext cx="2022120" cy="559800"/>
                <a:chOff x="157320" y="1985040"/>
                <a:chExt cx="2022120" cy="55980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207720" y="1985040"/>
                  <a:ext cx="1921320" cy="55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5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57320" y="1985040"/>
                  <a:ext cx="2022120" cy="559800"/>
                </a:xfrm>
                <a:prstGeom prst="rect">
                  <a:avLst/>
                </a:prstGeom>
                <a:noFill/>
                <a:ln w="255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2179800" y="1985040"/>
                <a:ext cx="1538280" cy="559800"/>
                <a:chOff x="2179800" y="1985040"/>
                <a:chExt cx="1538280" cy="5598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2230560" y="1985040"/>
                  <a:ext cx="1436760" cy="55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5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2179800" y="1985040"/>
                  <a:ext cx="1538280" cy="559800"/>
                </a:xfrm>
                <a:prstGeom prst="rect">
                  <a:avLst/>
                </a:prstGeom>
                <a:noFill/>
                <a:ln w="255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3718440" y="1985040"/>
                <a:ext cx="5266440" cy="559800"/>
                <a:chOff x="3718440" y="1985040"/>
                <a:chExt cx="5266440" cy="55980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3769200" y="1985040"/>
                  <a:ext cx="5164560" cy="55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missione (tonnellate/anno)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3718440" y="1985040"/>
                  <a:ext cx="5266440" cy="559800"/>
                </a:xfrm>
                <a:prstGeom prst="rect">
                  <a:avLst/>
                </a:prstGeom>
                <a:noFill/>
                <a:ln w="255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157320" y="2544840"/>
                <a:ext cx="2022120" cy="559800"/>
                <a:chOff x="157320" y="2544840"/>
                <a:chExt cx="2022120" cy="55980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207720" y="2544840"/>
                  <a:ext cx="1921320" cy="55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ttività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157320" y="2544840"/>
                  <a:ext cx="2022120" cy="559800"/>
                </a:xfrm>
                <a:prstGeom prst="rect">
                  <a:avLst/>
                </a:prstGeom>
                <a:noFill/>
                <a:ln w="255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2179800" y="2544840"/>
                <a:ext cx="1538280" cy="559800"/>
                <a:chOff x="2179800" y="2544840"/>
                <a:chExt cx="1538280" cy="55980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2230560" y="2544840"/>
                  <a:ext cx="1436760" cy="55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tim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ottom - up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2179800" y="2544840"/>
                  <a:ext cx="1538280" cy="559800"/>
                </a:xfrm>
                <a:prstGeom prst="rect">
                  <a:avLst/>
                </a:prstGeom>
                <a:noFill/>
                <a:ln w="255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3718440" y="2544840"/>
                <a:ext cx="1110600" cy="559800"/>
                <a:chOff x="3718440" y="2544840"/>
                <a:chExt cx="1110600" cy="55980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3769200" y="2544840"/>
                  <a:ext cx="1009080" cy="55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x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718440" y="2544840"/>
                  <a:ext cx="1110600" cy="559800"/>
                </a:xfrm>
                <a:prstGeom prst="rect">
                  <a:avLst/>
                </a:prstGeom>
                <a:noFill/>
                <a:ln w="255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4829400" y="2544840"/>
                <a:ext cx="1110600" cy="559800"/>
                <a:chOff x="4829400" y="2544840"/>
                <a:chExt cx="1110600" cy="55980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4880160" y="2544840"/>
                  <a:ext cx="1009080" cy="55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4829400" y="2544840"/>
                  <a:ext cx="1110600" cy="559800"/>
                </a:xfrm>
                <a:prstGeom prst="rect">
                  <a:avLst/>
                </a:prstGeom>
                <a:noFill/>
                <a:ln w="255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5940360" y="2544840"/>
                <a:ext cx="1038240" cy="559800"/>
                <a:chOff x="5940360" y="2544840"/>
                <a:chExt cx="1038240" cy="55980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5991120" y="2544840"/>
                  <a:ext cx="936720" cy="55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5940360" y="2544840"/>
                  <a:ext cx="1038240" cy="559800"/>
                </a:xfrm>
                <a:prstGeom prst="rect">
                  <a:avLst/>
                </a:prstGeom>
                <a:noFill/>
                <a:ln w="255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6979320" y="2544840"/>
                <a:ext cx="1038240" cy="559800"/>
                <a:chOff x="6979320" y="2544840"/>
                <a:chExt cx="1038240" cy="55980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7030080" y="2544840"/>
                  <a:ext cx="936360" cy="55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V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979320" y="2544840"/>
                  <a:ext cx="1038240" cy="559800"/>
                </a:xfrm>
                <a:prstGeom prst="rect">
                  <a:avLst/>
                </a:prstGeom>
                <a:noFill/>
                <a:ln w="255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8017920" y="2544840"/>
                <a:ext cx="967320" cy="559800"/>
                <a:chOff x="8017920" y="2544840"/>
                <a:chExt cx="967320" cy="55980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8068320" y="2544840"/>
                  <a:ext cx="865800" cy="55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M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8017920" y="2544840"/>
                  <a:ext cx="967320" cy="559800"/>
                </a:xfrm>
                <a:prstGeom prst="rect">
                  <a:avLst/>
                </a:prstGeom>
                <a:noFill/>
                <a:ln w="255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157320" y="3105000"/>
                <a:ext cx="2022120" cy="1039680"/>
                <a:chOff x="157320" y="3105000"/>
                <a:chExt cx="2022120" cy="103968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207720" y="3105000"/>
                  <a:ext cx="1921320" cy="103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0402-Nazionale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0404-Internazionale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157320" y="3105000"/>
                  <a:ext cx="2022120" cy="1039680"/>
                </a:xfrm>
                <a:prstGeom prst="rect">
                  <a:avLst/>
                </a:prstGeom>
                <a:noFill/>
                <a:ln w="255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2179800" y="3105000"/>
                <a:ext cx="1538280" cy="1039680"/>
                <a:chOff x="2179800" y="3105000"/>
                <a:chExt cx="1538280" cy="103968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2230560" y="3105000"/>
                  <a:ext cx="1436760" cy="103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AVI e rimorchiatori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tro le bocche di port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179800" y="3105000"/>
                  <a:ext cx="1538280" cy="1039680"/>
                </a:xfrm>
                <a:prstGeom prst="rect">
                  <a:avLst/>
                </a:prstGeom>
                <a:noFill/>
                <a:ln w="255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3718440" y="3105000"/>
                <a:ext cx="1110600" cy="1039680"/>
                <a:chOff x="3718440" y="3105000"/>
                <a:chExt cx="1110600" cy="103968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3769200" y="3105000"/>
                  <a:ext cx="1009080" cy="103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648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718440" y="3105000"/>
                  <a:ext cx="1110600" cy="1039680"/>
                </a:xfrm>
                <a:prstGeom prst="rect">
                  <a:avLst/>
                </a:prstGeom>
                <a:noFill/>
                <a:ln w="255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4829400" y="3105000"/>
                <a:ext cx="1110600" cy="1039680"/>
                <a:chOff x="4829400" y="3105000"/>
                <a:chExt cx="1110600" cy="10396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4880160" y="3105000"/>
                  <a:ext cx="1009080" cy="103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486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4829400" y="3105000"/>
                  <a:ext cx="1110600" cy="1039680"/>
                </a:xfrm>
                <a:prstGeom prst="rect">
                  <a:avLst/>
                </a:prstGeom>
                <a:noFill/>
                <a:ln w="255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5940360" y="3105000"/>
                <a:ext cx="1038240" cy="1039680"/>
                <a:chOff x="5940360" y="3105000"/>
                <a:chExt cx="1038240" cy="10396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5991120" y="3105000"/>
                  <a:ext cx="936720" cy="103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7628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5940360" y="3105000"/>
                  <a:ext cx="1038240" cy="1039680"/>
                </a:xfrm>
                <a:prstGeom prst="rect">
                  <a:avLst/>
                </a:prstGeom>
                <a:noFill/>
                <a:ln w="255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6979320" y="3105000"/>
                <a:ext cx="1038240" cy="1039680"/>
                <a:chOff x="6979320" y="3105000"/>
                <a:chExt cx="1038240" cy="10396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7030080" y="3105000"/>
                  <a:ext cx="936360" cy="103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25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6979320" y="3105000"/>
                  <a:ext cx="1038240" cy="1039680"/>
                </a:xfrm>
                <a:prstGeom prst="rect">
                  <a:avLst/>
                </a:prstGeom>
                <a:noFill/>
                <a:ln w="255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8017920" y="3105000"/>
                <a:ext cx="967320" cy="1039680"/>
                <a:chOff x="8017920" y="3105000"/>
                <a:chExt cx="967320" cy="10396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8068320" y="3105000"/>
                  <a:ext cx="865800" cy="103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17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8017920" y="3105000"/>
                  <a:ext cx="967320" cy="1039680"/>
                </a:xfrm>
                <a:prstGeom prst="rect">
                  <a:avLst/>
                </a:prstGeom>
                <a:noFill/>
                <a:ln w="255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157320" y="4145040"/>
                <a:ext cx="2022120" cy="879480"/>
                <a:chOff x="157320" y="4145040"/>
                <a:chExt cx="2022120" cy="8794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207720" y="4145040"/>
                  <a:ext cx="1921320" cy="87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0501-Nazionale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0502-Internazionale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157320" y="4145040"/>
                  <a:ext cx="2022120" cy="879480"/>
                </a:xfrm>
                <a:prstGeom prst="rect">
                  <a:avLst/>
                </a:prstGeom>
                <a:noFill/>
                <a:ln w="255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2179800" y="4145040"/>
                <a:ext cx="1538280" cy="879480"/>
                <a:chOff x="2179800" y="4145040"/>
                <a:chExt cx="1538280" cy="8794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2230560" y="4145040"/>
                  <a:ext cx="1436760" cy="87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EREI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 rotta sotto i 1000 m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179800" y="4145040"/>
                  <a:ext cx="1538280" cy="879480"/>
                </a:xfrm>
                <a:prstGeom prst="rect">
                  <a:avLst/>
                </a:prstGeom>
                <a:noFill/>
                <a:ln w="255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3718440" y="4145040"/>
                <a:ext cx="1110600" cy="879480"/>
                <a:chOff x="3718440" y="4145040"/>
                <a:chExt cx="1110600" cy="87948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3769200" y="4145040"/>
                  <a:ext cx="1009080" cy="87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11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718440" y="4145040"/>
                  <a:ext cx="1110600" cy="879480"/>
                </a:xfrm>
                <a:prstGeom prst="rect">
                  <a:avLst/>
                </a:prstGeom>
                <a:noFill/>
                <a:ln w="255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4829400" y="4145040"/>
                <a:ext cx="1110600" cy="879480"/>
                <a:chOff x="4829400" y="4145040"/>
                <a:chExt cx="1110600" cy="8794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4880160" y="4145040"/>
                  <a:ext cx="1009080" cy="87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5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5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5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SOx)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29400" y="4145040"/>
                  <a:ext cx="1110600" cy="879480"/>
                </a:xfrm>
                <a:prstGeom prst="rect">
                  <a:avLst/>
                </a:prstGeom>
                <a:noFill/>
                <a:ln w="255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5940360" y="4145040"/>
                <a:ext cx="1038240" cy="879480"/>
                <a:chOff x="5940360" y="4145040"/>
                <a:chExt cx="1038240" cy="8794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5991120" y="4145040"/>
                  <a:ext cx="936720" cy="87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8584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940360" y="4145040"/>
                  <a:ext cx="1038240" cy="879480"/>
                </a:xfrm>
                <a:prstGeom prst="rect">
                  <a:avLst/>
                </a:prstGeom>
                <a:noFill/>
                <a:ln w="255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6979320" y="4145040"/>
                <a:ext cx="1038240" cy="879480"/>
                <a:chOff x="6979320" y="4145040"/>
                <a:chExt cx="1038240" cy="87948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7030080" y="4145040"/>
                  <a:ext cx="936360" cy="87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7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6979320" y="4145040"/>
                  <a:ext cx="1038240" cy="879480"/>
                </a:xfrm>
                <a:prstGeom prst="rect">
                  <a:avLst/>
                </a:prstGeom>
                <a:noFill/>
                <a:ln w="255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8017920" y="4145040"/>
                <a:ext cx="967320" cy="879480"/>
                <a:chOff x="8017920" y="4145040"/>
                <a:chExt cx="967320" cy="87948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8068320" y="4145040"/>
                  <a:ext cx="865800" cy="87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PM10)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8017920" y="4145040"/>
                  <a:ext cx="967320" cy="879480"/>
                </a:xfrm>
                <a:prstGeom prst="rect">
                  <a:avLst/>
                </a:prstGeom>
                <a:noFill/>
                <a:ln w="255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4" name=""/>
            <p:cNvSpPr/>
            <p:nvPr/>
          </p:nvSpPr>
          <p:spPr>
            <a:xfrm>
              <a:off x="152280" y="1981080"/>
              <a:ext cx="8839080" cy="3048120"/>
            </a:xfrm>
            <a:prstGeom prst="rect">
              <a:avLst/>
            </a:prstGeom>
            <a:noFill/>
            <a:ln w="255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600200" y="152280"/>
            <a:ext cx="6172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552f2"/>
                </a:solidFill>
                <a:latin typeface="Verdana"/>
              </a:rPr>
              <a:t>Stime bottom –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552f2"/>
                </a:solidFill>
                <a:latin typeface="Verdana"/>
              </a:rPr>
              <a:t>emissioni inquinanti 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552f2"/>
                </a:solidFill>
                <a:latin typeface="Verdana"/>
              </a:rPr>
              <a:t>Porto e Aeroporto di Venez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D-navi-fango-02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135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5120" cy="10526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28600" y="547056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 scala nazionale ed europea lo studio ARPAV rappresenta uno dei primi esempi di valutazione bottom up delle emissioni portuali ed aeroportual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1EACF-04BF-455E-AD99-61FDAAD2459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17440" y="914400"/>
            <a:ext cx="4125960" cy="51814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477120" y="3733920"/>
            <a:ext cx="2057400" cy="160020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4267080"/>
            <a:ext cx="2819160" cy="1905120"/>
          </a:xfrm>
          <a:prstGeom prst="wedgeEllipseCallout">
            <a:avLst>
              <a:gd name="adj1" fmla="val -59347"/>
              <a:gd name="adj2" fmla="val -69000"/>
            </a:avLst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.B.: su circa 2000 navi non da car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irca 1300 sono passegger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l restante sono fer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572000" y="901800"/>
            <a:ext cx="4572000" cy="2908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133800" y="152280"/>
            <a:ext cx="299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552f2"/>
                </a:solidFill>
                <a:latin typeface="Verdana"/>
              </a:rPr>
              <a:t>Porto di Venez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63BD8-A749-402A-8E8F-58BE1FF8B82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11040" b="0"/>
          <a:stretch/>
        </p:blipFill>
        <p:spPr>
          <a:xfrm>
            <a:off x="304920" y="1365120"/>
            <a:ext cx="8534160" cy="52405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04920" y="228600"/>
            <a:ext cx="8607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552f2"/>
                </a:solidFill>
                <a:latin typeface="Verdana"/>
              </a:rPr>
              <a:t>Confronto delle emissioni delle navi da carico con quelle passeggeri/fe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6BB6A-A490-4880-B25E-5EA815FDA5F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rcRect l="0" t="0" r="0" b="38392"/>
          <a:stretch/>
        </p:blipFill>
        <p:spPr>
          <a:xfrm>
            <a:off x="1233360" y="1906560"/>
            <a:ext cx="6386760" cy="25131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76320" y="457200"/>
            <a:ext cx="9067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552f2"/>
                </a:solidFill>
                <a:latin typeface="Verdana"/>
              </a:rPr>
              <a:t>Confronto delle emissioni in fase di manovra con quelle in fase di stazion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5178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fase di stazionamento dà un contributo molto più importante rispetto alla fase di manov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DE82E-5490-4ADF-AE73-6A69F9C908A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3T11:22:38Z</dcterms:created>
  <dc:creator>M Rosa</dc:creator>
  <dc:description/>
  <dc:language>en-US</dc:language>
  <cp:lastModifiedBy>frigosi</cp:lastModifiedBy>
  <dcterms:modified xsi:type="dcterms:W3CDTF">2007-02-06T13:03:04Z</dcterms:modified>
  <cp:revision>473</cp:revision>
  <dc:subject>Introduzione generale per Convegno ANCI Venezia 2001</dc:subject>
  <dc:title>Campi elettromagnetici e ambiente</dc:title>
</cp:coreProperties>
</file>